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98F-E28E-4733-AA00-9B1C3FEF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788-A9F7-4AC2-96CE-72171BB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9AC-ABDD-411B-80FD-4DBC1144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480-B6C0-47D8-ABA5-C3E7548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CEB-6138-4091-8E8C-0EF4007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CB7-69D7-4A51-92F1-11BFED1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91F-39DC-4340-9A55-60AA3A84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E12-647C-442A-8032-D73A386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813-85EE-48D9-AACC-6DE2A2B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47D-CFDE-468B-AF8E-33C1B664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4CE-5E1F-48C4-8A51-DFCE2A6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58E-6306-416A-A085-5FF85FC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4EE7-C036-4199-B8BE-DA03B9240B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9"/>
          <p:cNvGrpSpPr/>
          <p:nvPr/>
        </p:nvGrpSpPr>
        <p:grpSpPr>
          <a:xfrm>
            <a:off x="0" y="-360"/>
            <a:ext cx="6885000" cy="9144360"/>
            <a:chOff x="0" y="-360"/>
            <a:chExt cx="6885000" cy="9144360"/>
          </a:xfrm>
        </p:grpSpPr>
        <p:sp>
          <p:nvSpPr>
            <p:cNvPr id="42" name="Rectangle 45"/>
            <p:cNvSpPr/>
            <p:nvPr/>
          </p:nvSpPr>
          <p:spPr>
            <a:xfrm>
              <a:off x="981000" y="0"/>
              <a:ext cx="4896000" cy="826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35"/>
            <p:cNvGrpSpPr/>
            <p:nvPr/>
          </p:nvGrpSpPr>
          <p:grpSpPr>
            <a:xfrm>
              <a:off x="5761080" y="7120080"/>
              <a:ext cx="1123920" cy="1123920"/>
              <a:chOff x="5761080" y="7120080"/>
              <a:chExt cx="1123920" cy="1123920"/>
            </a:xfrm>
          </p:grpSpPr>
          <p:grpSp>
            <p:nvGrpSpPr>
              <p:cNvPr id="44" name="Group 34"/>
              <p:cNvGrpSpPr/>
              <p:nvPr/>
            </p:nvGrpSpPr>
            <p:grpSpPr>
              <a:xfrm>
                <a:off x="5761080" y="7120080"/>
                <a:ext cx="1123920" cy="1123920"/>
                <a:chOff x="5761080" y="7120080"/>
                <a:chExt cx="1123920" cy="1123920"/>
              </a:xfrm>
            </p:grpSpPr>
            <p:pic>
              <p:nvPicPr>
                <p:cNvPr id="45" name="Picture 28" descr="7774681-personne-3d-avec-affiche-vide-rendu-3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61080" y="7120080"/>
                  <a:ext cx="112392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Rectangle 33"/>
                <p:cNvSpPr/>
                <p:nvPr/>
              </p:nvSpPr>
              <p:spPr>
                <a:xfrm>
                  <a:off x="6192720" y="7551720"/>
                  <a:ext cx="28764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" name="Text Box 32"/>
              <p:cNvSpPr/>
              <p:nvPr/>
            </p:nvSpPr>
            <p:spPr>
              <a:xfrm rot="21324600">
                <a:off x="5877000" y="7595640"/>
                <a:ext cx="9446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600" spc="-1" strike="noStrike">
                    <a:solidFill>
                      <a:srgbClr val="000000"/>
                    </a:solidFill>
                    <a:latin typeface="Arial"/>
                  </a:rPr>
                  <a:t>POSTE hors résea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600" spc="-1" strike="noStrike">
                    <a:solidFill>
                      <a:srgbClr val="000000"/>
                    </a:solidFill>
                    <a:latin typeface="Arial"/>
                  </a:rPr>
                  <a:t>Action SSI en cour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Picture 31" descr="rediger"/>
            <p:cNvPicPr/>
            <p:nvPr/>
          </p:nvPicPr>
          <p:blipFill>
            <a:blip r:embed="rId2"/>
            <a:stretch/>
          </p:blipFill>
          <p:spPr>
            <a:xfrm>
              <a:off x="4824360" y="8104320"/>
              <a:ext cx="63036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nous-contacter"/>
            <p:cNvPicPr/>
            <p:nvPr/>
          </p:nvPicPr>
          <p:blipFill>
            <a:blip r:embed="rId3"/>
            <a:stretch/>
          </p:blipFill>
          <p:spPr>
            <a:xfrm>
              <a:off x="5033880" y="5394240"/>
              <a:ext cx="4460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8"/>
            <p:cNvSpPr/>
            <p:nvPr/>
          </p:nvSpPr>
          <p:spPr>
            <a:xfrm>
              <a:off x="0" y="10800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Century Gothic"/>
                </a:rPr>
                <a:t>FICHE REFL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Century Gothic"/>
                </a:rPr>
                <a:t>REACTION IMMEDIATE ALERTE VI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1719000" y="851040"/>
              <a:ext cx="36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Century Gothic"/>
                </a:rPr>
                <a:t>En cas de déclenchement de l’antivir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2878200" y="2662200"/>
              <a:ext cx="1473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entury Gothic"/>
                </a:rPr>
                <a:t>Fig.1 – Agent BitDefen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5"/>
            <p:cNvSpPr/>
            <p:nvPr/>
          </p:nvSpPr>
          <p:spPr>
            <a:xfrm>
              <a:off x="569880" y="6227640"/>
              <a:ext cx="601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4 –</a:t>
              </a: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Isoler tous les médias amovibles utilisés sur le poste de trav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et, le cas échéant, prévenir vos correspondants avec qui vous avez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échangés 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6"/>
            <p:cNvSpPr/>
            <p:nvPr/>
          </p:nvSpPr>
          <p:spPr>
            <a:xfrm>
              <a:off x="549360" y="5465880"/>
              <a:ext cx="561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3 – Contacter immédiatement 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1" lang="fr-FR" sz="1400" spc="-1" strike="noStrike" u="sng">
                  <a:solidFill>
                    <a:srgbClr val="ff0000"/>
                  </a:solidFill>
                  <a:uFillTx/>
                  <a:latin typeface="Century Gothic"/>
                </a:rPr>
                <a:t>Jacques ACHARD – 04 94 02 51 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9"/>
            <p:cNvSpPr/>
            <p:nvPr/>
          </p:nvSpPr>
          <p:spPr>
            <a:xfrm>
              <a:off x="549360" y="7236000"/>
              <a:ext cx="619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5 – Baliser le poste de travail, </a:t>
              </a: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surtout si le poste est multi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utilisateurs en apposant une affichet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(ex.: </a:t>
              </a: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« POSTE hors réseau,</a:t>
              </a: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Century Gothic"/>
                </a:rPr>
                <a:t>action SSI en cours » </a:t>
              </a: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) 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1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"/>
            <p:cNvSpPr/>
            <p:nvPr/>
          </p:nvSpPr>
          <p:spPr>
            <a:xfrm>
              <a:off x="0" y="826920"/>
              <a:ext cx="685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23" descr="rubon300-fc00a"/>
            <p:cNvPicPr/>
            <p:nvPr/>
          </p:nvPicPr>
          <p:blipFill>
            <a:blip r:embed="rId4"/>
            <a:stretch/>
          </p:blipFill>
          <p:spPr>
            <a:xfrm>
              <a:off x="281160" y="34920"/>
              <a:ext cx="483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25"/>
            <p:cNvSpPr/>
            <p:nvPr/>
          </p:nvSpPr>
          <p:spPr>
            <a:xfrm flipV="1">
              <a:off x="981000" y="-360"/>
              <a:ext cx="0" cy="82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6"/>
            <p:cNvSpPr/>
            <p:nvPr/>
          </p:nvSpPr>
          <p:spPr>
            <a:xfrm flipV="1">
              <a:off x="5877000" y="-360"/>
              <a:ext cx="0" cy="82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4"/>
            <p:cNvSpPr/>
            <p:nvPr/>
          </p:nvSpPr>
          <p:spPr>
            <a:xfrm>
              <a:off x="1352520" y="2954160"/>
              <a:ext cx="45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Century Gothic"/>
                </a:rPr>
                <a:t>ou de comportement anormal du poste de trav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55"/>
            <p:cNvGrpSpPr/>
            <p:nvPr/>
          </p:nvGrpSpPr>
          <p:grpSpPr>
            <a:xfrm>
              <a:off x="115920" y="3203640"/>
              <a:ext cx="5900760" cy="341280"/>
              <a:chOff x="115920" y="3203640"/>
              <a:chExt cx="5900760" cy="341280"/>
            </a:xfrm>
          </p:grpSpPr>
          <p:sp>
            <p:nvSpPr>
              <p:cNvPr id="63" name="Text Box 52"/>
              <p:cNvSpPr/>
              <p:nvPr/>
            </p:nvSpPr>
            <p:spPr>
              <a:xfrm>
                <a:off x="519120" y="3220920"/>
                <a:ext cx="549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Century Gothic"/>
                  </a:rPr>
                  <a:t>1 –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Century Gothic"/>
                  </a:rPr>
                  <a:t>Interrompre toute activité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entury Gothic"/>
                  </a:rPr>
                  <a:t>, sur le poste de travail suspect 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920" y="3203640"/>
                <a:ext cx="342720" cy="34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Group 56"/>
            <p:cNvGrpSpPr/>
            <p:nvPr/>
          </p:nvGrpSpPr>
          <p:grpSpPr>
            <a:xfrm>
              <a:off x="115920" y="3635280"/>
              <a:ext cx="6741720" cy="341280"/>
              <a:chOff x="115920" y="3635280"/>
              <a:chExt cx="6741720" cy="341280"/>
            </a:xfrm>
          </p:grpSpPr>
          <p:sp>
            <p:nvSpPr>
              <p:cNvPr id="66" name="Text Box 10"/>
              <p:cNvSpPr/>
              <p:nvPr/>
            </p:nvSpPr>
            <p:spPr>
              <a:xfrm>
                <a:off x="558360" y="3652920"/>
                <a:ext cx="629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Century Gothic"/>
                  </a:rPr>
                  <a:t>2 –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Century Gothic"/>
                  </a:rPr>
                  <a:t>Ne pas éteindre l’ordinateur mais débrancher le câble réseau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entury Gothic"/>
                  </a:rPr>
                  <a:t> 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" name="Picture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920" y="3635280"/>
                <a:ext cx="349920" cy="34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Text Box 57"/>
            <p:cNvSpPr/>
            <p:nvPr/>
          </p:nvSpPr>
          <p:spPr>
            <a:xfrm>
              <a:off x="563400" y="3944880"/>
              <a:ext cx="630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entury Gothic"/>
                </a:rPr>
                <a:t>depuis la prise murale ou depuis le poste de trav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2"/>
            <p:cNvGrpSpPr/>
            <p:nvPr/>
          </p:nvGrpSpPr>
          <p:grpSpPr>
            <a:xfrm>
              <a:off x="829440" y="4282920"/>
              <a:ext cx="1537200" cy="1082520"/>
              <a:chOff x="829440" y="4282920"/>
              <a:chExt cx="1537200" cy="1082520"/>
            </a:xfrm>
          </p:grpSpPr>
          <p:pic>
            <p:nvPicPr>
              <p:cNvPr id="70" name="Picture 6" descr="RJ45-prise-mural"/>
              <p:cNvPicPr/>
              <p:nvPr/>
            </p:nvPicPr>
            <p:blipFill>
              <a:blip r:embed="rId7"/>
              <a:stretch/>
            </p:blipFill>
            <p:spPr>
              <a:xfrm>
                <a:off x="1050840" y="4282920"/>
                <a:ext cx="10810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58"/>
              <p:cNvSpPr/>
              <p:nvPr/>
            </p:nvSpPr>
            <p:spPr>
              <a:xfrm>
                <a:off x="829440" y="5149800"/>
                <a:ext cx="1537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entury Gothic"/>
                  </a:rPr>
                  <a:t>Fig.2 – Prise réseau mura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78"/>
            <p:cNvGrpSpPr/>
            <p:nvPr/>
          </p:nvGrpSpPr>
          <p:grpSpPr>
            <a:xfrm>
              <a:off x="4668840" y="4211640"/>
              <a:ext cx="1706400" cy="1152360"/>
              <a:chOff x="4668840" y="4211640"/>
              <a:chExt cx="1706400" cy="1152360"/>
            </a:xfrm>
          </p:grpSpPr>
          <p:pic>
            <p:nvPicPr>
              <p:cNvPr id="73" name="Picture 5" descr="Prise-RJ45-PC"/>
              <p:cNvPicPr/>
              <p:nvPr/>
            </p:nvPicPr>
            <p:blipFill>
              <a:blip r:embed="rId8"/>
              <a:stretch/>
            </p:blipFill>
            <p:spPr>
              <a:xfrm>
                <a:off x="4836960" y="4211640"/>
                <a:ext cx="1368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59"/>
              <p:cNvSpPr/>
              <p:nvPr/>
            </p:nvSpPr>
            <p:spPr>
              <a:xfrm>
                <a:off x="4668840" y="5148360"/>
                <a:ext cx="1706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entury Gothic"/>
                  </a:rPr>
                  <a:t>Fig.6 – Prise RJ 45 poste trav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Picture 65" descr=""/>
            <p:cNvPicPr/>
            <p:nvPr/>
          </p:nvPicPr>
          <p:blipFill>
            <a:blip r:embed="rId9"/>
            <a:stretch/>
          </p:blipFill>
          <p:spPr>
            <a:xfrm>
              <a:off x="115920" y="5435640"/>
              <a:ext cx="3506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7" descr=""/>
            <p:cNvPicPr/>
            <p:nvPr/>
          </p:nvPicPr>
          <p:blipFill>
            <a:blip r:embed="rId10"/>
            <a:stretch/>
          </p:blipFill>
          <p:spPr>
            <a:xfrm>
              <a:off x="115920" y="6227640"/>
              <a:ext cx="3506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9" descr=""/>
            <p:cNvPicPr/>
            <p:nvPr/>
          </p:nvPicPr>
          <p:blipFill>
            <a:blip r:embed="rId11"/>
            <a:stretch/>
          </p:blipFill>
          <p:spPr>
            <a:xfrm>
              <a:off x="115920" y="7254720"/>
              <a:ext cx="350640" cy="3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4"/>
            <p:cNvGrpSpPr/>
            <p:nvPr/>
          </p:nvGrpSpPr>
          <p:grpSpPr>
            <a:xfrm>
              <a:off x="115920" y="8299440"/>
              <a:ext cx="6626160" cy="376200"/>
              <a:chOff x="115920" y="8299440"/>
              <a:chExt cx="6626160" cy="376200"/>
            </a:xfrm>
          </p:grpSpPr>
          <p:sp>
            <p:nvSpPr>
              <p:cNvPr id="79" name="Text Box 70"/>
              <p:cNvSpPr/>
              <p:nvPr/>
            </p:nvSpPr>
            <p:spPr>
              <a:xfrm>
                <a:off x="549360" y="8299440"/>
                <a:ext cx="619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Century Gothic"/>
                  </a:rPr>
                  <a:t>6 – Rédiger une chronologie des évènements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Picture 7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920" y="8334360"/>
                <a:ext cx="350640" cy="34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Text Box 20"/>
            <p:cNvSpPr/>
            <p:nvPr/>
          </p:nvSpPr>
          <p:spPr>
            <a:xfrm>
              <a:off x="549360" y="8532720"/>
              <a:ext cx="1839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77"/>
            <p:cNvGrpSpPr/>
            <p:nvPr/>
          </p:nvGrpSpPr>
          <p:grpSpPr>
            <a:xfrm>
              <a:off x="2571840" y="4267080"/>
              <a:ext cx="1780920" cy="1025280"/>
              <a:chOff x="2571840" y="4267080"/>
              <a:chExt cx="1780920" cy="1025280"/>
            </a:xfrm>
          </p:grpSpPr>
          <p:pic>
            <p:nvPicPr>
              <p:cNvPr id="83" name="Picture 6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08360" y="4267080"/>
                <a:ext cx="1265040" cy="809640"/>
              </a:xfrm>
              <a:prstGeom prst="rect">
                <a:avLst/>
              </a:prstGeom>
              <a:ln w="6480">
                <a:solidFill>
                  <a:srgbClr val="000000"/>
                </a:solidFill>
                <a:miter/>
              </a:ln>
            </p:spPr>
          </p:pic>
          <p:sp>
            <p:nvSpPr>
              <p:cNvPr id="84" name="Text Box 76"/>
              <p:cNvSpPr/>
              <p:nvPr/>
            </p:nvSpPr>
            <p:spPr>
              <a:xfrm>
                <a:off x="2571840" y="5076720"/>
                <a:ext cx="178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entury Gothic"/>
                  </a:rPr>
                  <a:t>Fig.5 – Connecteur câble résea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Image 2" descr=""/>
          <p:cNvPicPr/>
          <p:nvPr/>
        </p:nvPicPr>
        <p:blipFill>
          <a:blip r:embed="rId14"/>
          <a:stretch/>
        </p:blipFill>
        <p:spPr>
          <a:xfrm>
            <a:off x="2637000" y="1287360"/>
            <a:ext cx="1962000" cy="1289160"/>
          </a:xfrm>
          <a:prstGeom prst="rect">
            <a:avLst/>
          </a:prstGeom>
          <a:ln w="0">
            <a:noFill/>
          </a:ln>
        </p:spPr>
      </p:pic>
      <p:pic>
        <p:nvPicPr>
          <p:cNvPr id="86" name="Image 54" descr=""/>
          <p:cNvPicPr/>
          <p:nvPr/>
        </p:nvPicPr>
        <p:blipFill>
          <a:blip r:embed="rId15"/>
          <a:stretch/>
        </p:blipFill>
        <p:spPr>
          <a:xfrm>
            <a:off x="5950080" y="179280"/>
            <a:ext cx="8031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9:13:34Z</dcterms:created>
  <dc:creator>cedric.villiers@intradef.gouv.fr</dc:creator>
  <dc:description/>
  <dc:language>en-US</dc:language>
  <cp:lastModifiedBy>Julien Alba</cp:lastModifiedBy>
  <cp:lastPrinted>2020-04-13T06:41:43Z</cp:lastPrinted>
  <dcterms:modified xsi:type="dcterms:W3CDTF">2021-03-18T21:48:47Z</dcterms:modified>
  <cp:revision>18</cp:revision>
  <dc:subject/>
  <dc:title>Diapositive 1</dc:title>
</cp:coreProperties>
</file>